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8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рганизация документообор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Исходящий документопоток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оит из документов, создаваемых в данной организации и отправляемых за ее пределы. Исходящие документы могут создаваться как инициативные документы (требующие или не требующие ответа) или как ответные на поступившие письменные или устные запрос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нутренний документопоток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28600"/>
            <a:ext cx="82296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тавляют документы, не выходящие за пределы организации. Происхождение документов совпадает со сферой их применения: они создаются и обеспечивают целенаправленное решение управленческих задач в пределах одного учреждения, организ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 внутренним, прежде всего, относятся организационные документы, определяющие задачи, функции организации в целом, а также ее структурных подразделений, компетенцию, права и обязанности должностных лиц, правила выполнения отдельных видов деятельности — положения, уставы, учредительные договоры, должностные инструкции, регламен­ы, правила, штатные расписания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кцию оперативного регулирования деятельности учреждений выполняют распорядительные документы, издаваемые руководством, — приказы, указания, распоряжения, решения. Самостоятельные группы внутреннего документопотока составляют протоколы и акты, плановые и отчетные документы, документы по учету материальных и денежных средств, оборудования, личного состава и т. 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рактике деятельности современных организаций широкое распространение получила внутренняя переписка. Она оформляется, в основном, докладными (служебными) и объяснительными записками, которые составляют отдельную группу внутренней документ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Учет документооборота позволяет: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2056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 загрузку организации в целом, ее структурных подразделений и отдельных исполнителе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 соответствие маршрутов движения тех или иных документов задачам и функциям структурных подразделений или должностных лиц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ть мероприятия по совершенствованию процессов обработки документов в целом или их отдельных операц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 оптимальное количество информации, необходимой и достаточной для функционирования аппарата управл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читать численность службы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Дайте определение понятия «документооборот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еречислите основные требования к организации документооборота в учрежд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Назовите правила учета документообор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E5F5-24E8-46DD-8CA0-37D055F527A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C195-BACB-4086-B6AA-A428E73D16D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Технологии ДОУ в соответствии с различием информационных процессов делятся на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обработки поступающих и отправляемы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передачи (доведения) документной информации конечному пользовател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введения документов в информационную базу данных организации исход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ее внутренней структу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й обработки документной информации и накопл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хранения и использования отдельных локальных групп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общие принципы организации документооборота в ЕГСД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еративность движения документов, его целенаправленное регулирование и оптимальное осуществ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единообразия в порядке прохождения и технологии обработки основных категорий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е инстанций прохождения и действий с документами, не обусловленных деловой необходим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ГОСТ Р 51141 " Делопроизводство и архивное дело. Термины и определения"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406600"/>
            <a:ext cx="82296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документооборо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это движение документов с момента их создания или получения до завершения исполнения: отправки и (или) направления в дело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и организации движения документов необходимо выполнение следующих правил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еративное прохождение документа, с наименьшими затратами времен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е сокращение инстанций прохождения документов (за счет исключения технологических операций и обработке документов и управленческих звеньев, не обусловленных деловой необходимостью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ение или максимальное ограничение возвратных движений документов (при их обработке - регистрация и доставка, при их подготовке - визирование и согласование и т.д.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е единообразие в порядке прохождения и процессах обработки основных категорий документов, исходя из того, что каждое перемещение документа должно быть оправданн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Выделяют три основных типа документов, составляющих централизованный документооборот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027240"/>
            <a:ext cx="82296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ходящие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сходя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нутрен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окументопотоки различаются по направлению и по отношению к управленческому объекту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286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направлению выделяют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изонтальные и вертикальные (восходящие и нисходящие) поток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оризонта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токи связывают организации одного уровня управления,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ертика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— организации различных уровн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сходящие поток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это документы подчиненных организаций, направляемые в вышестоящие инстанции (документы, получаемые вышестоящей орга­низацией от подчиненных организаций). Нисходящие потоки — это документы, направляемые вышестоящими органами власти и управления подчиненным организаци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отношению к управленческой системе выделя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ходящий документопоток (документы, поступающие в организацию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ходящий документопоток (документы, отправляемые из организаци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енний документопоток (документы, не выходящие за пределы подготовившей их организац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ходящий документопоток любой организации составляют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3840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вышестоящи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органов власти и управления, головных компаний и др.). Они содержат директивные указания, нормативные и методические акты, которые являются основанием для организации производственной, управленческой, технической, экономической, социальной и иной деятельности в учреждении. Основными видами документов данной группы являются законы, указы, постановления, решения, приказы, распоряжения, указания, поручения, письма, инструкции, методические указания и рекоменда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подведомственны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которые содержат сведения о выполнении распоряжений, запросы о методах и средствах выполнения заданий и отчетные данные об их деятельности. Этот поток состоит из таких документов, как отчеты по различным направлениям деятельности, докладные записки, письма, акт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от несоподчиненны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направляемые с целью согласования совместных действий или побуждения к ним, консультирования, получения или направления необходимой информации. Основные виды документов данной группы — письма (информационные, рекламные, оферты, гарантийные, запросы и др.), договоры, а также документы, сопровождающие выполнение договоров (акты, счета, заявки, сертификаты, отгрузочные документы и др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ращения гражда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2:47:41Z</dcterms:modified>
  <cp:revision>133</cp:revision>
  <dc:subject/>
  <dc:title>Lecture Template </dc:title>
</cp:coreProperties>
</file>